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BBF-F6B5-4CAA-8846-1B4C74B9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B7E-487F-4204-976C-F69895CB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C57-1F3C-4F11-ADBC-8DADE7DA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05B-F057-4D4C-BEA8-04A8457E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5BD-0939-44BF-B1BD-5F92D6D5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A1D-B3EE-4241-98FA-923D3B72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4FC-B785-4679-A254-8C793E6B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61B-9BAF-48B4-9675-31317CA1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13D-686B-45C1-B386-34D716D7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5FC-E596-4D8F-BD61-DE61864A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FC3-74B1-45F1-87CF-D4DD30D8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E29-5F0F-4264-8E94-06F10363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13AF-8608-4F53-8A45-F84E3E39DE2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1. október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568520" cy="1512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3280" y="5072040"/>
            <a:ext cx="81374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Hazai Tudományos Diákköri műhelyek 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rendezvényeik támogatása” című NTP-HHTDK-20-0044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755640" y="439560"/>
            <a:ext cx="2016000" cy="1089360"/>
          </a:xfrm>
          <a:prstGeom prst="rect">
            <a:avLst/>
          </a:prstGeom>
          <a:ln w="0">
            <a:noFill/>
          </a:ln>
        </p:spPr>
      </p:pic>
      <p:pic>
        <p:nvPicPr>
          <p:cNvPr id="47" name="Kép 9" descr="http://www.emet.gov.hu/_userfiles/hirek/NTP/emmi_logo.png"/>
          <p:cNvPicPr/>
          <p:nvPr/>
        </p:nvPicPr>
        <p:blipFill>
          <a:blip r:embed="rId3"/>
          <a:stretch/>
        </p:blipFill>
        <p:spPr>
          <a:xfrm>
            <a:off x="4140360" y="439560"/>
            <a:ext cx="1439640" cy="1089360"/>
          </a:xfrm>
          <a:prstGeom prst="rect">
            <a:avLst/>
          </a:prstGeom>
          <a:ln w="0">
            <a:noFill/>
          </a:ln>
        </p:spPr>
      </p:pic>
      <p:pic>
        <p:nvPicPr>
          <p:cNvPr id="48" name="Kép 10" descr="http://www.emet.gov.hu/_userfiles/hirek/NTP/ntp_72_rgb.jpg"/>
          <p:cNvPicPr/>
          <p:nvPr/>
        </p:nvPicPr>
        <p:blipFill>
          <a:blip r:embed="rId4"/>
          <a:stretch/>
        </p:blipFill>
        <p:spPr>
          <a:xfrm>
            <a:off x="60336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Kép 11" descr="http://www.emet.gov.hu/_userfiles/hatter_1/emet_logok/%C3%BAj%20logo/emet_logo_szines.jpg"/>
          <p:cNvPicPr/>
          <p:nvPr/>
        </p:nvPicPr>
        <p:blipFill>
          <a:blip r:embed="rId5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1-10-19T12:33:52Z</dcterms:modified>
  <cp:revision>11</cp:revision>
  <dc:subject/>
  <dc:title>DUNÁNTÚLI MANDULAFA</dc:title>
</cp:coreProperties>
</file>